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C5045-95CC-4E25-A400-7FB8406B3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3832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713E5-24E4-448B-9346-516F04DFE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21B5-B5E3-4B8A-979B-5CC723E7D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964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000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964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000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4DF4-17F7-41B3-8439-3BE38C285B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58407-A0F0-4B75-AEA9-0C35109C4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46D5D-7DAE-4A06-A474-BC0D15878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CC1E-79A0-4442-8DFD-E43671720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97E71-6F1A-4672-8651-33DD8CC4A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920"/>
            <a:ext cx="78487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F04ED-D53C-48A4-A77E-855A7FFDC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491A4-0A82-42B1-B0C0-537789E98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E789-64D7-4A4E-BD4B-6147AFFCD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F738-871D-4301-BF11-F39F70714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78920" y="6453000"/>
            <a:ext cx="813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88000" y="6453000"/>
            <a:ext cx="576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19E2-ED22-486D-82A0-564B04BF0A90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8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Multithreading in Visual FoxPro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Christof Wollenhau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oxp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8900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</a:rPr>
              <a:t>D-M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37372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taten: Visual FoxPro, Konservierungsmittel Registry, MTDLL, Geschmacksverstärker Interprocess Communication (IPC). Achtung: Kann Spuren von C++ enth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Synchronisieru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vents: Etwas ist passiert, kann gesche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UTEX: Exklusiven Zugriff absich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atenaustausch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ile Mapping: Gemeinsam genutzter Speicherbereich mit einem Na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med Pipe: Nachrichten (Befehl) an andere Threads oder Prozesse schi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ie Realitä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ynchrone Named Pipes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chronisierung schwer zu tes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sfallsicherheit herste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adlocks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reads sauber herunterfah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egistrierung der MTDLL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Noch Fragen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48768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51280" y="1700280"/>
            <a:ext cx="489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hristof.Wollenhaupt@foxper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bse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ttp://www.foxper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sch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pmannsweg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22846 Norderste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lef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040 / 682670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zur Pers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lbständiger Entwickler in Norderstedt mit Schwerpunkt FoxP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oxPro Erfahrung seit FoxPro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Certified Developer (MC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MVP 1997-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 95 Artikel im FoxPro Adviso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sop im CompuServe Fo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mail:Christof.Wollenhaupt@foxpert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ieser Vortra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s ist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e geht d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ozu brauche ich d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ttp://www.foxpert.com/dmult.z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Multithread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nterschiede zu Proze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reateThread() API Funk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TD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part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MULT.D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ilfsbibliothek in Visual C++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rsha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bjektreferenzen überg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Wozu, weshalb, wann nicht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Langwierige Prozesse in der Oberflä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imerersat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zubrechende SELECT Abfr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ten im Voraus 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prüfung auf Änder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richte dru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mportaufga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essourcenauslastung optim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Kommunik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zessübergreifende Kommunikation (I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 Aufruf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as ist wichtig…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ynchrone Ausfüh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lockieren von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enden von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chronisierung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parate Instan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mmunikation auf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PI Objek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men (Local\, Global\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gnalis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tefunkt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7:28:00Z</dcterms:created>
  <dc:creator>Christof Lange</dc:creator>
  <dc:description/>
  <dc:language>en-US</dc:language>
  <cp:lastModifiedBy>Christof</cp:lastModifiedBy>
  <dcterms:modified xsi:type="dcterms:W3CDTF">2005-11-12T08:03:14Z</dcterms:modified>
  <cp:revision>100</cp:revision>
  <dc:subject/>
  <dc:title>D-BIND</dc:title>
</cp:coreProperties>
</file>